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08E0-B366-419D-AA55-70731FBB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D64-8EB1-41B4-81B1-81C3B5D3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3AE7-004F-4AED-9E55-85A6A932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B14-188B-479F-8DF5-08FC8DCC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7338-DB5D-4FB9-AF39-63443917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BFCF-8FAF-402C-88E8-E180919C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3ED5-342E-43AE-B263-C9AD72DD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50AC-19ED-4A99-9C1D-89E3F972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D013-B3D2-4E53-B2C3-7F846B65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74E6-58FB-4719-9EAF-9F379181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12F7-8009-4BDA-9BE4-92181025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BC10-10DA-4874-BDD6-132C0432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C273-1B59-47BD-9CA2-D25B0E4B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12D8-0C91-4DEC-A866-EDCA767D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46FB-36D2-4BC7-8A19-E3448047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C91D-7F00-4D1F-89E7-7D4206C6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3019-E265-47FA-85B6-2BE6919D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1312-A770-4949-A58A-DB2C5A20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278-0B1C-47B0-9500-2DC35A51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C99-C775-446B-A584-B11A6625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245F-5095-4D40-979A-638F345A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3913-09A9-4833-98F9-2BF2F121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4C6-B6A7-4998-B459-0A9A818B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26C4-E60A-46E1-99AC-FD68759D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47BD-8E25-47AF-8544-16541BED99A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E72E-042E-42D1-8AC2-117B15E5692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2852640"/>
            <a:ext cx="8551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Экономические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систем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610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Командно-административная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систем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сударственная собственность практически на все экономические ресурс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нополизация эконом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юрократизация экономи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ентрализованное экономическое планирова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50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мешанная экономи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00000" y="1844640"/>
            <a:ext cx="3456000" cy="2238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240600" y="4221000"/>
            <a:ext cx="2903400" cy="2637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65640" y="4867920"/>
            <a:ext cx="5715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аво обладать средствами производст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вободно перемещать това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существлять сделки по купле-продаж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нимать и увольнять работ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ъединяться с другими организаци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08560" y="1390680"/>
            <a:ext cx="4735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рудовое регулиров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нтимонопольное регулиров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рпоративное регул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щита интеллектуаль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бств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щита прав потреб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дача субсидий на развитие ря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лементов инфраструкту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500"/>
                            </p:stCondLst>
                            <p:childTnLst>
                              <p:par>
                                <p:cTn id="3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4600"/>
                            </p:stCondLst>
                            <p:childTnLst>
                              <p:par>
                                <p:cTn id="3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6600"/>
                            </p:stCondLst>
                            <p:childTnLst>
                              <p:par>
                                <p:cTn id="3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Главные причины неудач экономического реформирования в годы «перестройки»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непрерывные корректировки предпринимаемых экономических реформ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начало демонтажа прежней вертикали управления экономикой без создания новых механизмов управления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отставание процессов экономического реформирования от быстрых перемен в политической жизни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ослабление центра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активизация политической борьбы вокруг путей экономического развития страны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утрата населением веры в способность властей добиться реальных перемен к лучшему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6000"/>
                            </p:stCondLst>
                            <p:childTnLst>
                              <p:par>
                                <p:cTn id="4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Структура экономической 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   систем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617040" y="2707560"/>
            <a:ext cx="74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циально-экономические отнош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5640" y="4005000"/>
            <a:ext cx="68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рганизационно-правовые форм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озяйственн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1000" y="5373000"/>
            <a:ext cx="51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озяйственный механ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50"/>
                            </p:stCondLst>
                            <p:childTnLst>
                              <p:par>
                                <p:cTn id="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15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Подходы к изучению экономических систем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2205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ацион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ивилизацион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ория постиндустриального об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35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800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Формационный подход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694240" cy="3528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4000" y="1987560"/>
            <a:ext cx="61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щественно-экономическ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1844640"/>
            <a:ext cx="4608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285264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59280" y="285264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37152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 а з и с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71080" y="37152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дстрой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3645000"/>
            <a:ext cx="1943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4360" y="3645000"/>
            <a:ext cx="194292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0160" y="4364280"/>
            <a:ext cx="3461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производственные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отношен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производительные сил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25280" y="4365720"/>
            <a:ext cx="23749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политически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идеологически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социальные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и др. отношен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Пять типов экономических систем с позиции формационного подход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2403000"/>
            <a:ext cx="633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вобытнообщин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абовладельчес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феодаль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питалистичес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оммунистичес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aeaea"/>
                </a:solidFill>
                <a:latin typeface="Tahoma"/>
              </a:rPr>
              <a:t>Теория постиндустриального общества</a:t>
            </a:r>
            <a:endParaRPr b="1" lang="en-US" sz="3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3959280" cy="3106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014560" y="5300280"/>
            <a:ext cx="586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индустриальное общ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дустриальное общ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тиндустриальное общ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24360" y="1988280"/>
            <a:ext cx="243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Daniel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Bell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28600" y="2924280"/>
            <a:ext cx="47145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Tahoma"/>
              </a:rPr>
              <a:t>Грядущее постиндустриальное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Tahoma"/>
              </a:rPr>
              <a:t>общество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(1973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6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6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6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6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6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6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Современные типы и модели экономических систем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адиционная эконом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мандно-административная экономика (планова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ыночная экономика (чистый капитализм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мешанная эконом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50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Традиционная систем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сталые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ллективное ведение хозяй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лкотоварное производ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азание государством социальной поддержки беднейших слоев насе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деление государством средств на развитие инфраструкту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900"/>
                            </p:stCondLst>
                            <p:childTnLst>
                              <p:par>
                                <p:cTn id="260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400"/>
                            </p:stCondLst>
                            <p:childTnLst>
                              <p:par>
                                <p:cTn id="266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900"/>
                            </p:stCondLst>
                            <p:childTnLst>
                              <p:par>
                                <p:cTn id="272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4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9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Рыночная экономи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31640" y="2492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вободное предприниматель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ногообразие форм собственности на средства произ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ыночное ценообраз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говорные отношения между хозяйствующими субъект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19:19:44Z</dcterms:created>
  <dc:creator>Александр Юхалов</dc:creator>
  <dc:description/>
  <dc:language>en-US</dc:language>
  <cp:lastModifiedBy>Александр Юхалов</cp:lastModifiedBy>
  <dcterms:modified xsi:type="dcterms:W3CDTF">2007-05-10T21:34:34Z</dcterms:modified>
  <cp:revision>2</cp:revision>
  <dc:subject/>
  <dc:title>Экономические системы</dc:title>
</cp:coreProperties>
</file>