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40F-E438-4DEB-8FB7-76C9B27D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0A7-8EB7-4E43-A762-961DA309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D3D-3058-4D54-BBBF-E54A41E2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4220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6508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4220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6508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D3C-359D-4E30-987B-2AC75620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118E-4711-47F5-8739-ECF02602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8316-F558-4007-B79E-4C4881D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019F-E3B4-459A-B789-50408495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2DE0-D349-45D7-AA35-7AC8BEB1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8E4B-86BF-4DA1-864B-55908DBB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57913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9BD7-34CC-43FA-BC95-CD076DDB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98CC-7C58-4985-9A02-5BA84695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023-F45C-4475-9DFD-1B637BC5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8120-8AAA-46A4-A939-A29EE30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CA24-B629-4570-A3CF-83D0507D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ED22-3F87-4E39-A2A6-2BCC2697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1374-1544-4582-9819-3B268065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4220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46508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896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4220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46508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0E60-C8B3-4A3B-A0A0-5F3D8AB8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328-5E2A-49E1-82BB-25A75110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A55-55DC-4931-8EFF-57C30835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D09-20E7-40D7-94B6-EF09254A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57913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D3F-671C-4121-AD82-14D030CB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10E-D728-44EA-8F84-98C633B4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C86-2E62-478A-9B2B-4723D9C0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02E-B702-4CB3-A8E9-A2CDE54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30120"/>
            <a:ext cx="6180120" cy="923148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2311560"/>
            <a:ext cx="575316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73080"/>
            <a:ext cx="885960" cy="58611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6099120"/>
            <a:ext cx="885960" cy="37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9920" y="550800"/>
            <a:ext cx="57150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9920" y="2532240"/>
            <a:ext cx="5715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9960" y="88218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88760" y="8821800"/>
            <a:ext cx="2171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160600" y="88218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6064-0376-4AEB-B77A-65F6F93EEF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6720" y="290520"/>
            <a:ext cx="6297840" cy="934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73080"/>
            <a:ext cx="885960" cy="619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7840" y="5965920"/>
            <a:ext cx="780840" cy="660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6099120"/>
            <a:ext cx="885960" cy="3714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812520" y="880596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641680" y="880596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5213520" y="880596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BFBE-A27F-4E7F-B821-1F010E9335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28880" y="1935000"/>
            <a:ext cx="5371920" cy="28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Сочинение</a:t>
            </a:r>
            <a:br>
              <a:rPr sz="3200"/>
            </a:b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Женский  образ  в  повести А.И. Куприна «Олеся»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4952880"/>
            <a:ext cx="52578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ЕЙСЯ  СРЕДНЕЙ  ШКОЛЫ №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ЕССЕНТ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- «б»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БОВОЙ  МАРИ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кова  Светлана 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0-2001 г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12:52:12Z</dcterms:created>
  <dc:creator>Галина</dc:creator>
  <dc:description/>
  <dc:language>en-US</dc:language>
  <cp:lastModifiedBy>Галина</cp:lastModifiedBy>
  <dcterms:modified xsi:type="dcterms:W3CDTF">2000-11-16T14:28:53Z</dcterms:modified>
  <cp:revision>6</cp:revision>
  <dc:subject/>
  <dc:title>БОРИС  МИХАЙЛОВИЧ  КУСТОДИЕВ  ПРЕПОДАВАТЕЛЬ Первакова  Светлана  Николаевна</dc:title>
</cp:coreProperties>
</file>