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rrow.wav" ContentType="audio/x-wav"/>
  <Override PartName="/ppt/media/drumroll.wav" ContentType="audio/x-wav"/>
  <Override PartName="/ppt/media/image1.jpeg" ContentType="image/jpeg"/>
  <Override PartName="/ppt/media/image2.jpeg" ContentType="image/jpeg"/>
  <Override PartName="/ppt/media/explode.wav" ContentType="audio/x-wav"/>
  <Override PartName="/ppt/media/breeze.wav" ContentType="audio/x-wav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4B7F-9E2D-41AF-B39B-C58ACE36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9D3D-9ACE-4F05-853D-A5A08E11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0C79-59BE-4A9E-8145-A75AF1B6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433F-2803-4FDD-BFC4-1090FD07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D83F-83EA-44CE-9E39-A4A6BD1F7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7384-5123-4C6B-BE91-7BBC71ED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420F-320B-4FC2-A7E9-9E9BFF5D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F794-796B-4F4D-9F0D-2654A649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5093-9A03-4E12-BCA6-D336A46D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B234-3BFF-4751-8C13-AF88AB88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E695-7D1A-441C-9AFF-DB29D640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9061-0AAA-4387-B4C1-70D3A3C2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9AF2-0F5B-43FA-8786-87A3BD9F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2AE7-D874-4696-8826-8C0867D3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9228-8D03-4BA6-9576-1A4AD7C1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8EAE-4A0C-4E35-BDB1-51A5D49BE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29B0-DD63-4CFF-A860-22C79B62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13BC-F7A9-40A5-B4C2-0D363841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2222-6BD2-4B78-AFA0-DD4DEBAA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10DD-5C1F-4BF4-A94F-807DFA72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720D-2601-4231-85D8-4D6BF12F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C53F-97BA-4096-9B8E-5C2C2D04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5CDD-E352-4B0E-99D9-A856B522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155B-A0E4-43B1-B1EC-0A8E15E2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212F-BC41-4BD4-B23B-3A81E94A4F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855E-3755-4868-9ADB-6AC9063E8E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200" spc="-1" strike="noStrike">
                <a:solidFill>
                  <a:srgbClr val="ffffff"/>
                </a:solidFill>
                <a:latin typeface="Times New Roman"/>
              </a:rPr>
              <a:t>Юрий Шевчук и группа </a:t>
            </a: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DD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Творчеств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newsflash/>
    <p:sndAc>
      <p:stSnd>
        <p:snd r:embed="rId1" name="arrow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Создание групп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нажды летом 1980 года Ю. Шевчу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дипломированный художник и поэт-самоучк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стретил четырех молодых людей так и началась группа ДД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тавшая одной из самых популярных групп русского р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435640" y="1989000"/>
            <a:ext cx="3097080" cy="396108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fade/>
    <p:sndAc>
      <p:stSnd>
        <p:snd r:embed="rId2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Первый альбо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В 1982г группа ДДТ записывает свой первый альбом «Свинья на радуге»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4176720" cy="38163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strips dir="lu"/>
    <p:sndAc>
      <p:stSnd>
        <p:snd r:embed="rId2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Новый состав ДД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енью 1983г. Шевчук собрал новый костяк ДДТ. Состав обновленного ДДТ бы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Андрей Васильев (гита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окал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адим Курылев (ба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флей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окал) и Игорь Доценко (ударные). В апреле 1987г к ним присоединился гитарист и скрипач Никита Зайцев. Позднее группа обрела клавишник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оопарк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Андрея Муратова и в этом составе приняла участие в Рок-фестивалях в ряде подмосковных городов. В сентябре 1988 в группу пришел саксофонист Михаил Чернов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Лучшая рок-групп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сегодняшний день ДДТ – одна из самых популярных российских рок-групп. В1993г группа была назва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учшей рок-группой год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а сам Шевчук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учшим рок-музыкантом год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42040" y="1828800"/>
            <a:ext cx="268920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Пожелание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87280" y="3068640"/>
            <a:ext cx="67694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8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Русский рок приведет нас к победе.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3000">
    <p:wheel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3:33:39Z</dcterms:created>
  <dc:creator>Anton</dc:creator>
  <dc:description/>
  <dc:language>en-US</dc:language>
  <cp:lastModifiedBy>Anton</cp:lastModifiedBy>
  <dcterms:modified xsi:type="dcterms:W3CDTF">2005-03-10T18:14:11Z</dcterms:modified>
  <cp:revision>3</cp:revision>
  <dc:subject/>
  <dc:title>Юрий Шевчук и группа DDT</dc:title>
</cp:coreProperties>
</file>