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25B-8CDC-46E0-9F9F-431BEF92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BB8-4D62-48DA-9E27-1F54465E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88C-6645-4F86-82E4-63512894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134-986E-4EF4-BE0A-F5781C2E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BE014-188E-4D2B-9E1A-364CD60E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BF0A5-7C55-4F50-9602-8C7099BC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1347C-58A7-4AF5-BBE8-41F9D9E9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5C359-D7E1-46B1-B49A-581BBBEF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D4DF3-5F31-4785-B5F9-F671C5B5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40669-21D0-4134-A103-FFEC38F0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311B7-6057-4397-8D11-2853A8D6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17B-0A6E-40D2-8466-2A1826CF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E7398-0E3F-4BDA-84AD-3E236CA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8D0BC-2F32-41A9-B69D-426CF3BC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5CD49-AD26-4BF3-94A6-1B83AA1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2C2A4-7DC6-49ED-917C-4862D6AE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D70A5-6BA6-4CCD-B53D-F525DDC5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B39-5ADA-4A86-B46A-A70151A1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F7E-479F-4AD7-8A5E-F508C1E8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713-468C-41E8-909A-0748ECA4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1BB-28BA-4539-AD29-D735EBE7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EB8-FBCC-4615-B82E-CEF8AB69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FA4-36BD-4FA3-8956-6FC30AF5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E4F-0E59-4FD4-BC62-ACC39DF2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D750-ACB9-46C9-B01E-5E83179FC7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CDD1-8DA9-4B98-A931-84C0476DC2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СИТУАЦИЯ ВЫБОРА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В ЗДОРОВЬЕСБЕРЕГАЮЩЕМ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УЧЕБНОМ ПРОЦЕСС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ЮБЕЧАН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ОБРАЗОВАТЕ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ЛИМОВ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500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ЭФФЕКТИВНОСТЬ РАБОТЫ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РЕЗУЛЬТАТЫ РАНЖИРОВАНИЯ ПРЕДМЕТОВ.</a:t>
            </a:r>
            <a:br>
              <a:rPr sz="2800"/>
            </a:br>
            <a:r>
              <a:rPr b="0" lang="ru-RU" sz="3000" spc="-1" strike="noStrike">
                <a:solidFill>
                  <a:srgbClr val="00ffff"/>
                </a:solidFill>
                <a:latin typeface="Tahoma"/>
              </a:rPr>
              <a:t>ВЫВОД</a:t>
            </a:r>
            <a:r>
              <a:rPr b="1" lang="ru-RU" sz="3000" spc="-1" strike="noStrike">
                <a:solidFill>
                  <a:srgbClr val="00ffff"/>
                </a:solidFill>
                <a:latin typeface="Tahoma"/>
              </a:rPr>
              <a:t>: ситуация выбора в учебном процессе повышает рейтинг учебного предмет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166920"/>
          <a:ext cx="4038480" cy="158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166920"/>
                    <a:ext cx="4038480" cy="15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95280" y="2637000"/>
          <a:ext cx="8291520" cy="373536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Место (из 14 возможн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2001-2002 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Немец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2002-2003 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Немец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2003-2004 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Немец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1 полугодие 2004-2005 учебного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Немец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ЭФФЕКТИВНОСТЬ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РЕФЛЕКСИВНАЯ ДЕЯТЕЛЬНОСТЬ ПО РЕЗУЛЬТАТАМ СУБЪЕКТНОЙ ОЦЕНКИ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Tahoma"/>
              </a:rPr>
              <a:t>ВЫВОД: </a:t>
            </a: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учащиеся отмечают рост уровней обученности, обучаемости, развития общеучебных У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РЕЗУЛЬТАТИВНОСТЬ ОБУЧЕННОСТИ И ВНЕКЛАССНОЙ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Tahoma"/>
              </a:rPr>
              <a:t>ВЫВОД: </a:t>
            </a: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показатели обученности выше общерайонных при 100% успеваемости, возрастает результативность участия учащихся в школьных и районных мероприятиях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СИТУАЦИЯ ВЫБ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2708280"/>
            <a:ext cx="273672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фференциация ка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оровьесбере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84640"/>
            <a:ext cx="262728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агностик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ндивидуальных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аза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3284640"/>
            <a:ext cx="270036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цесс обучения н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е индивидуальных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аза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4797360"/>
            <a:ext cx="655344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ФЛЕКСИВНАЯ 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3357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626920" y="3716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866920" y="3357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371628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4292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4292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1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333360"/>
            <a:ext cx="403848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СПАСИБО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З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ВНИМ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321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96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01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АКТУАЛЬНОСТЬ ПРОБЛ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5 МАРТА 2004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ГОССТАНДА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ОДНО ИЗ НАПРАВЛЕНИЙ МОДЕРНИЗАЦИИ: «ОБЕСПЕЧЕНИЕ ВАРИАТИВНОСТИ И СВОБОДЫ ВЫБОРА В ОБРАЗОВАНИИ ДЛЯ СУБЪЕКТОВ ОБРАЗОВАТЕЛЬНОГО ПРОЦЕСС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ВАРИАЦИИ СВОБОДЫ ВЫБ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392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Tahoma"/>
              </a:rPr>
              <a:t>На уровне области / рай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Tahoma"/>
              </a:rPr>
              <a:t>На уровне учебного за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Tahoma"/>
              </a:rPr>
              <a:t>На уровне учебного занятия </a:t>
            </a:r>
            <a:r>
              <a:rPr b="0" lang="ru-RU" sz="2000" spc="-1" strike="noStrike" u="sng">
                <a:solidFill>
                  <a:srgbClr val="00ffff"/>
                </a:solidFill>
                <a:uFillTx/>
                <a:latin typeface="Tahoma"/>
              </a:rPr>
              <a:t>(цель концепци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индивидуального образовательного маршру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форм, способов, типа учения, его реж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заданий по степени слож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заданий и форм отчет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«коллеги»- соученика или учи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дидактических материалов, дополнительных источников информации и так дал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КОНКРЕТИЗАЦИЯ Ц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cc"/>
                </a:solidFill>
                <a:latin typeface="Tahoma"/>
              </a:rPr>
              <a:t>Определить роль ситуации выбора в здоровьесбережении учащихся на уровне учебного заня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Tahoma"/>
              </a:rPr>
              <a:t>«СИТУАЦИЯ ВЫБОРА В ЗДОРОВЬЕСБЕРЕГАЮЩЕМ УЧЕБНОМ ПРОЦЕСС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cc"/>
                </a:solidFill>
                <a:latin typeface="Tahoma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cc"/>
                </a:solidFill>
                <a:latin typeface="Tahoma"/>
              </a:rPr>
              <a:t>Определить понятие «ситуация выбор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cc"/>
                </a:solidFill>
                <a:latin typeface="Tahoma"/>
              </a:rPr>
              <a:t>Выявить условия создания ситуации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cc"/>
                </a:solidFill>
                <a:latin typeface="Tahoma"/>
              </a:rPr>
              <a:t>Разработать алгоритм деятельности учителя, учащихся в условиях коллективного и индивидуального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cc"/>
                </a:solidFill>
                <a:latin typeface="Tahoma"/>
              </a:rPr>
              <a:t>Описать виды учебных задач для создания ситуации выбора в процессе преподавания немецкого язы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СИТУАЦИЯ ВЫБОРА- спроектированный учителем элемент урока, группового занятия, когда ученики поставлены перед необходимостью отдать свое предпочтение одному из вариантов учебных задач и способов их решения для проявления своей активности, самостоятельности и индивидуальности позна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</a:t>
            </a:r>
            <a:br>
              <a:rPr sz="32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индивидуальный</a:t>
            </a:r>
            <a:br>
              <a:rPr sz="32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ллектив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1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68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Условия и обстоятельства создания ситуации выб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Готовность учащихся к выбор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Педагогическая целесообразность ситуации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Стимулирование учащихся к выбор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Аргументация своего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Определение степени свободы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Успешность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Защищенность школьников от собственных ошиб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Оценка результатов решения выбранного вариан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038480" cy="568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ГОССТАНДАРТ. ПОЯСНИТЕЛЬНАЯ ЗАПИС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«Администрация образовательных учреждений создает необходимые условия для реализации Госстандарта, обеспечивает контроль за… (в том числе) за выполнением требований к уровню подготовки выпускнико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МОНИТОРИНГ ИНДИВИДУАЛЬНЫХ ПОКАЗАТЕЛЕЙ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ahoma"/>
              </a:rPr>
              <a:t>ОБУЧ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ahoma"/>
              </a:rPr>
              <a:t>ОБУЧАЕ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ahoma"/>
              </a:rPr>
              <a:t>ОБЩЕУЧЕБНЫЕ У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Учебно-организационные У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Учебно-интеллектуальные У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Учебно-информационные У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Учебно-коммуникативные У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ahoma"/>
              </a:rPr>
              <a:t>Уровни развития индивидуальных показателей</a:t>
            </a: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«0» уровень-отсутствие ум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«1» уровень-знакомство с действием, выполнение при помощ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«2» уровень- самостоятельное выполнение по образц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«3» уровень- свободное выполнение действ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«4» уровень- навык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35880" cy="2345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ЦЕНИВАНИЕ ЗУН В УСЛОВИЯХ ДИФФЕРЕНЦИРОВАННОГО ОБУЧЕНИЯ</a:t>
            </a:r>
            <a:br>
              <a:rPr sz="4000"/>
            </a:br>
            <a:r>
              <a:rPr b="1" i="1" lang="ru-RU" sz="3200" spc="-1" strike="noStrike">
                <a:solidFill>
                  <a:srgbClr val="00ffff"/>
                </a:solidFill>
                <a:latin typeface="Tahoma"/>
              </a:rPr>
              <a:t>ситуация вы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3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ff"/>
                </a:solidFill>
                <a:uFillTx/>
                <a:latin typeface="Tahoma"/>
              </a:rPr>
              <a:t>НЕТ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(ОЦЕН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ычитате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Теку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Обязате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Базового уров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2781360"/>
            <a:ext cx="4244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ff"/>
                </a:solidFill>
                <a:uFillTx/>
                <a:latin typeface="Tahoma"/>
              </a:rPr>
              <a:t>ДА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(ОЦЕН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Разви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Накопите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Динам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Доброво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Повышенного уров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735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ФФЕКТИВНОСТЬ РАБОТ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ИКА ФИЛЛИПСА:ИЗУЧЕНИЕ УРОВНЯ И ХАРАКТЕРА ТРЕВОЖНОСТИ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ВЫВОД: снижение уровня тревожности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2952720"/>
          <a:ext cx="4038480" cy="20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52720"/>
                    <a:ext cx="4038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0" y="2565360"/>
          <a:ext cx="9144000" cy="429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565360"/>
                    <a:ext cx="91440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7:00:58Z</dcterms:created>
  <dc:creator>Однодворцев Евгений Иванович</dc:creator>
  <dc:description/>
  <dc:language>en-US</dc:language>
  <cp:lastModifiedBy>ЛОМАКО</cp:lastModifiedBy>
  <dcterms:modified xsi:type="dcterms:W3CDTF">2006-04-28T18:13:02Z</dcterms:modified>
  <cp:revision>20</cp:revision>
  <dc:subject/>
  <dc:title>АКТУАЛЬНОСТЬ ПРОБЛ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