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BC16-77A6-47E9-B79E-AA56FC32F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FCCE-8CE5-4D63-9126-5D840D6AA5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9875-EC90-4135-9083-6AF5AAC53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D7E3-D3D6-46F3-8605-6AD2F4140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B8B5-D13F-4899-A310-594CA0C9D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0A33-B6FF-488D-9BA2-F89C2C87C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4E3D-70DE-432B-97D2-643BDBD246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5366-DE38-43CB-B7C7-8404C4280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F0BF-F6DC-45D1-B91E-BCFED3042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FEC4-5C14-48B2-A9CA-B3D26BA40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87DE-7A5B-4F40-A2A1-000B50981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867B-4F75-41B3-B3D8-16946099F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9862-AAA0-468F-9306-95FECCF941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348-29E1-4513-B86D-A3A802E3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24D-B7B5-481E-9997-D474BAC6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CC9-0533-4BBE-905C-4F7A064C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97C-539E-484B-BCC4-481A17E3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5F26-877D-45DC-891C-048EDD56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6A8C-68A8-4F03-9A03-275A510B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086D-134D-4FE0-B96F-9B641083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5438-3574-4C0D-9873-2460D64E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5D4D-E144-424C-8D55-4E7FBF5A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2A65-AA89-47C0-B02E-CACD27A9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C6A8-C1A2-4989-BAC8-DC026E11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AB1-CB2C-4B6B-A65B-77F3F97D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0016-3743-4817-83DC-43815B00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5FBC-4A69-44DC-AABD-E4F38C42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BCB9-3517-4CC1-B095-8D062F75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2567-053B-4DBB-BC05-30C95913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7347-2C83-432D-9EE3-BE910FA6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3B351-9D92-40B4-9A02-BB1C8B4E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16D2-018C-46F8-AEED-D9AF650D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35D3-9E13-422C-BCBB-D60AD4AA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9FE7-1CD8-464B-B5CE-ABF796CE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427DD-A1E0-4DD6-9FE1-26C03C12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1C4-E991-4FDF-92D6-2F1A9AD7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F9270-BE55-4E71-9052-1D42C43B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2317-91E0-4AEF-BAD4-AC151191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F24B-1220-4FCE-AA40-8ACAD0A1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00A03-E207-4BB4-AF4D-13D0BC2E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0EB5-5A2A-48F8-93AB-466F9302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0A70B-9A89-474F-9BF9-6E97B106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A5823-ECBC-4CC2-902E-2233002B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002C-6341-4512-8044-A3899848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93361-53F9-4204-9D91-99373F94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1D8FA-F004-4151-9926-CF765D1B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F80-13E4-4A1F-BAE7-5A099D5B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904ED-3F0A-4822-8E17-BD371F25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F0192-376C-4E8A-9269-16E1226C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F11D-EB05-489A-9432-5C702248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EAC3-DECE-433F-B39D-1693A4C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1928-CA2D-4E06-8784-7B18524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875DB-E594-414D-8CB3-7CDFAD76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2A9D5-B016-45FC-B14E-A418A185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9D77C-74E4-4978-8AA5-6E49CF3E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E236-008B-48EE-9E99-C3100A81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41FF5-56BE-4BF3-A315-22A6E3D8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30E-7F6B-4C73-BC85-ACD3F5BF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8CFC7-AE3D-4247-8C67-568DF2E5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2F9E2-EC7B-4891-969A-255592DD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DD10E-FD4C-4337-8752-0DECCC0E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39BCC-AC59-4454-898A-40B6BEBD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A62C7-17CE-4263-9F5F-34B30E68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263E3-3233-4315-8819-A7536DA3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06FF7-2757-44CE-929D-A20762C1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3A3EF-13AE-4F86-ABE9-B5A01749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6404A-C352-40D5-8822-2B6B5395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48E3F-0E54-4060-8B66-0074CD1F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954-86CC-4E79-B2EC-0EB867AF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49D1A-68C3-4C29-941B-F5F84680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D86A2-B511-4073-B6F9-8D760795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50A4E-7D78-4502-900F-5EA0BC02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A81FD-CFFF-4A15-990C-F07529B3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6E86A-915D-4C40-B793-BC70FEEB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22F5C-3229-4441-B817-0FBB551E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74CBD-ECF6-4B3F-9B4F-A9923EF0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35E54-B64E-4C5E-8811-2E463F88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3B920-3D51-45F8-AC6F-287AD84B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18A5B-C464-43EB-BBFD-6E394043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978-66AD-4EBE-ABF6-56251A7B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550E-988D-4A90-83ED-EF1D43C9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86883-0798-4B32-BF2C-5CF3C66D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E8019-3BA1-435F-AEFC-8028023C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8A7-204A-4E6B-9FDB-7F3FE969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4BB-25A9-40F3-8448-3A28CDCC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405D-9374-4685-B4B0-005E51B8FD70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0998-2F14-4905-8BE2-9A52BC0967D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230F-F27F-4214-841B-A07B916185DF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CFAE-B216-4291-9AAC-8742CDA5101A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F6A5-D68C-40EB-8A2B-501F7E301C5A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0438-DDA4-46C2-8984-FD75A209DF76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5525-C77B-43DA-97E6-E261FC49B6E9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6EC9-E0A5-4107-8956-384DD085329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87BC-44AD-4541-B02E-85072B910FF0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7AC0-6FF2-4934-94ED-75505325EB5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F386-20D3-4978-8938-7C7FF1E51B6B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A857-D913-44A9-BA7F-30A884FBF27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0764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" descr=""/>
            <p:cNvPicPr/>
            <p:nvPr/>
          </p:nvPicPr>
          <p:blipFill>
            <a:blip r:embed="rId2"/>
            <a:stretch/>
          </p:blipFill>
          <p:spPr>
            <a:xfrm>
              <a:off x="1907640" y="0"/>
              <a:ext cx="72363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" descr=""/>
            <p:cNvPicPr/>
            <p:nvPr/>
          </p:nvPicPr>
          <p:blipFill>
            <a:blip r:embed="rId3"/>
            <a:stretch/>
          </p:blipFill>
          <p:spPr>
            <a:xfrm>
              <a:off x="3780000" y="41040"/>
              <a:ext cx="1428480" cy="137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9" name="Прямоугольник 10" descr=""/>
          <p:cNvPicPr/>
          <p:nvPr/>
        </p:nvPicPr>
        <p:blipFill>
          <a:blip r:embed="rId4"/>
          <a:stretch/>
        </p:blipFill>
        <p:spPr>
          <a:xfrm>
            <a:off x="682560" y="2054160"/>
            <a:ext cx="7871040" cy="238932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2"/>
          <p:cNvSpPr/>
          <p:nvPr/>
        </p:nvSpPr>
        <p:spPr>
          <a:xfrm>
            <a:off x="4959360" y="5589720"/>
            <a:ext cx="406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Ковалев М.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менеджмент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ация: управление инвестициями и экономика строи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5"/>
          <p:cNvSpPr/>
          <p:nvPr/>
        </p:nvSpPr>
        <p:spPr>
          <a:xfrm>
            <a:off x="152280" y="5589720"/>
            <a:ext cx="454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дипломного проектирования: Бобылев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э.н., доц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7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0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81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казатели эффектив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3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373D-ABD4-40D0-B297-B7597C45D30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Прямоугольник 5" descr=""/>
          <p:cNvPicPr/>
          <p:nvPr/>
        </p:nvPicPr>
        <p:blipFill>
          <a:blip r:embed="rId5"/>
          <a:stretch/>
        </p:blipFill>
        <p:spPr>
          <a:xfrm>
            <a:off x="1152360" y="2730600"/>
            <a:ext cx="7345440" cy="101916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7" descr=""/>
          <p:cNvPicPr/>
          <p:nvPr/>
        </p:nvPicPr>
        <p:blipFill>
          <a:blip r:embed="rId6"/>
          <a:stretch/>
        </p:blipFill>
        <p:spPr>
          <a:xfrm>
            <a:off x="950760" y="1542960"/>
            <a:ext cx="7851960" cy="7923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15" descr=""/>
          <p:cNvPicPr/>
          <p:nvPr/>
        </p:nvPicPr>
        <p:blipFill>
          <a:blip r:embed="rId7"/>
          <a:stretch/>
        </p:blipFill>
        <p:spPr>
          <a:xfrm>
            <a:off x="957240" y="2097000"/>
            <a:ext cx="7845480" cy="7923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16" descr=""/>
          <p:cNvPicPr/>
          <p:nvPr/>
        </p:nvPicPr>
        <p:blipFill>
          <a:blip r:embed="rId8"/>
          <a:stretch/>
        </p:blipFill>
        <p:spPr>
          <a:xfrm>
            <a:off x="3054240" y="3597120"/>
            <a:ext cx="3017880" cy="101772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17" descr=""/>
          <p:cNvPicPr/>
          <p:nvPr/>
        </p:nvPicPr>
        <p:blipFill>
          <a:blip r:embed="rId9"/>
          <a:stretch/>
        </p:blipFill>
        <p:spPr>
          <a:xfrm>
            <a:off x="3352680" y="4395960"/>
            <a:ext cx="2835360" cy="101736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18" descr=""/>
          <p:cNvPicPr/>
          <p:nvPr/>
        </p:nvPicPr>
        <p:blipFill>
          <a:blip r:embed="rId10"/>
          <a:stretch/>
        </p:blipFill>
        <p:spPr>
          <a:xfrm>
            <a:off x="2938320" y="5078520"/>
            <a:ext cx="321336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92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95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Риски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7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D4C0-C901-4179-9F40-CD8C657C6BD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08000" y="1628640"/>
          <a:ext cx="8928000" cy="5113440"/>
        </p:xfrm>
        <a:graphic>
          <a:graphicData uri="http://schemas.openxmlformats.org/drawingml/2006/table">
            <a:tbl>
              <a:tblPr/>
              <a:tblGrid>
                <a:gridCol w="1944720"/>
                <a:gridCol w="574560"/>
                <a:gridCol w="6408720"/>
              </a:tblGrid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а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наче-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ммент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мер компан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3%. Рассматриваемое предприятие довольно крупное, объемы производства в масштабах стра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нансовая струк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 5 %. Данный показатель зависит от коэффициента концентрации собственного капитала и от показателя текущей ликвид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изводственная и территориальная диверсифик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3%. Производственная диверсификация практически отсутствует (единственное направление деятельности – авиационный ремонт, образовательная деятельность влияет незначительно). Территориальная диверсификация средняя (предприятие ремонтирует авиационную технику для России и ближнего зарубежь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версификация клиен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4%. Чем меньше зависимость доходов компании от одного или нескольких крупнейших клиентов, тем при прочих равных условиях она стабильнее. Потребителями авиационного ремонта  являются практически все авиакомпании аэропорта Внуково и некоторые – других аэропортов, т. е. клиенты немногочисленны и весом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7304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нтабельность предприятия и прогнозируемость его до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4%. Рентабельность и стабильность доходов в данном бизнесе высокие, но зависят от политики госуда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чество управл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чество управления отражается на всех сферах существования компании, т. е. текущее состояние компании и перспективы ее развития во многом предопределены качеством управления. Данный фактор риска определяем как среднюю величину факторов, кроме факторов, зависящих от величины компании и прогнозируемости доход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чие собственные рис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 5 %.  Учитывает вероятность влияния на получение прогнозируемых доходов других специфических рисков, присущих оцениваемой компании. Принимая во внимание специфику ведения бизнеса в России, необходимо предусмотреть в ставке дисконта величину данного фактора на уровне середины диапазо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828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40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0764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3" descr=""/>
            <p:cNvPicPr/>
            <p:nvPr/>
          </p:nvPicPr>
          <p:blipFill>
            <a:blip r:embed="rId2"/>
            <a:stretch/>
          </p:blipFill>
          <p:spPr>
            <a:xfrm>
              <a:off x="1907640" y="0"/>
              <a:ext cx="72363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4" descr=""/>
            <p:cNvPicPr/>
            <p:nvPr/>
          </p:nvPicPr>
          <p:blipFill>
            <a:blip r:embed="rId3"/>
            <a:stretch/>
          </p:blipFill>
          <p:spPr>
            <a:xfrm>
              <a:off x="3780000" y="41040"/>
              <a:ext cx="142848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8075-7DC5-46B4-ABBD-9E2AF2300B1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Прямоугольник 2" descr=""/>
          <p:cNvPicPr/>
          <p:nvPr/>
        </p:nvPicPr>
        <p:blipFill>
          <a:blip r:embed="rId4"/>
          <a:stretch/>
        </p:blipFill>
        <p:spPr>
          <a:xfrm>
            <a:off x="1695600" y="2395440"/>
            <a:ext cx="559584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84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TextBox 7"/>
            <p:cNvGrpSpPr/>
            <p:nvPr/>
          </p:nvGrpSpPr>
          <p:grpSpPr>
            <a:xfrm>
              <a:off x="5338440" y="420480"/>
              <a:ext cx="3805560" cy="871920"/>
              <a:chOff x="5338440" y="420480"/>
              <a:chExt cx="3805560" cy="871920"/>
            </a:xfrm>
          </p:grpSpPr>
          <p:pic>
            <p:nvPicPr>
              <p:cNvPr id="287" name="Text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5438520" y="47628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Характеристики дипломного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9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Прямоугольник 2"/>
          <p:cNvSpPr/>
          <p:nvPr/>
        </p:nvSpPr>
        <p:spPr>
          <a:xfrm>
            <a:off x="250920" y="1916280"/>
            <a:ext cx="866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проработан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ышение квалификации сотрудников силами предприятия – относительно новое направление деятельности хозяйствующих субъектов. В последние годы появилось много работ по этой теме, но единого подхода пока не проработано. Требуется дополнительный анализ и систематизация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336600" y="3359160"/>
            <a:ext cx="85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«Внуковский авиаремонтный завод №40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6"/>
          <p:cNvSpPr/>
          <p:nvPr/>
        </p:nvSpPr>
        <p:spPr>
          <a:xfrm>
            <a:off x="307800" y="3933720"/>
            <a:ext cx="85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деятельности предприятия за счет реконструкции нерентабельных и бесперспективных произво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8"/>
          <p:cNvSpPr/>
          <p:nvPr/>
        </p:nvSpPr>
        <p:spPr>
          <a:xfrm>
            <a:off x="336600" y="494172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ипломного проектир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циональной системы управления инвестиционным проектом с учетом перспектив развития управляемых объ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 расчет инвестиционной эффективности от предлагаемых мероприя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1053-FCA8-4AF7-BC11-3AD99AFB27B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9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8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299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казатели эффектив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1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489A-0A19-44EF-BC12-A22FD0A70AD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Объект 4"/>
              <p:cNvSpPr txBox="1"/>
              <p:nvPr/>
            </p:nvSpPr>
            <p:spPr>
              <a:xfrm>
                <a:off x="3132000" y="2060640"/>
                <a:ext cx="3961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Прибыль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Затраты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Инвестиции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04" name="Схема 5" descr=""/>
          <p:cNvPicPr/>
          <p:nvPr/>
        </p:nvPicPr>
        <p:blipFill>
          <a:blip r:embed="rId5"/>
          <a:stretch/>
        </p:blipFill>
        <p:spPr>
          <a:xfrm>
            <a:off x="755640" y="1779480"/>
            <a:ext cx="7199280" cy="4572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Объект 9"/>
              <p:cNvSpPr txBox="1"/>
              <p:nvPr/>
            </p:nvSpPr>
            <p:spPr>
              <a:xfrm>
                <a:off x="3203640" y="2924280"/>
                <a:ext cx="3744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Объект 12"/>
              <p:cNvSpPr txBox="1"/>
              <p:nvPr/>
            </p:nvSpPr>
            <p:spPr>
              <a:xfrm>
                <a:off x="3292560" y="3860640"/>
                <a:ext cx="25588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Прибыль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Затраты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Инвестиции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1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TextBox 10"/>
            <p:cNvGrpSpPr/>
            <p:nvPr/>
          </p:nvGrpSpPr>
          <p:grpSpPr>
            <a:xfrm>
              <a:off x="5338440" y="420480"/>
              <a:ext cx="3805560" cy="871920"/>
              <a:chOff x="5338440" y="420480"/>
              <a:chExt cx="3805560" cy="871920"/>
            </a:xfrm>
          </p:grpSpPr>
          <p:pic>
            <p:nvPicPr>
              <p:cNvPr id="314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438520" y="47628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Оценка эффективности на действующем предприят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6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A7B1-5ACE-498B-9CF9-8C82A8E652F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Схема 3" descr=""/>
          <p:cNvPicPr/>
          <p:nvPr/>
        </p:nvPicPr>
        <p:blipFill>
          <a:blip r:embed="rId5"/>
          <a:stretch/>
        </p:blipFill>
        <p:spPr>
          <a:xfrm>
            <a:off x="1474920" y="1914480"/>
            <a:ext cx="61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2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TextBox 7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23" name="Text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ложение дел в отрас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5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A044-9AF5-4771-896E-2CF9546880E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4" descr=""/>
          <p:cNvPicPr/>
          <p:nvPr/>
        </p:nvPicPr>
        <p:blipFill>
          <a:blip r:embed="rId5"/>
          <a:stretch/>
        </p:blipFill>
        <p:spPr>
          <a:xfrm>
            <a:off x="773280" y="1609560"/>
            <a:ext cx="4752720" cy="245916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2"/>
          <p:cNvSpPr/>
          <p:nvPr/>
        </p:nvSpPr>
        <p:spPr>
          <a:xfrm>
            <a:off x="5585400" y="2100240"/>
            <a:ext cx="18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иаперевоз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Диаграмма 4" descr=""/>
          <p:cNvPicPr/>
          <p:nvPr/>
        </p:nvPicPr>
        <p:blipFill>
          <a:blip r:embed="rId6"/>
          <a:stretch/>
        </p:blipFill>
        <p:spPr>
          <a:xfrm>
            <a:off x="560520" y="4197240"/>
            <a:ext cx="76626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3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34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Сущность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3D5B-D224-4710-8AD0-4ACD44DD7FD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planprint"/>
          <p:cNvPicPr/>
          <p:nvPr/>
        </p:nvPicPr>
        <p:blipFill>
          <a:blip r:embed="rId5"/>
          <a:stretch/>
        </p:blipFill>
        <p:spPr>
          <a:xfrm>
            <a:off x="139680" y="1522440"/>
            <a:ext cx="3279960" cy="37353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0" y="5278320"/>
            <a:ext cx="867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Слесарно-механический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Цех по ремонту и техобслуживанию планеров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Цех ремонта агрегатов самолетов и двиг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Цех по ремонту и техобслуживанию планеров Air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– Механический це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– Цех по ремонту и техобслуживанию планеров ТУ-204, ТУ-214, ИЛ-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– Цех ремонта элементов план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ируемый цех – Цех по ремонту и техобслуживанию планеров ТУ-154, ИЛ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1" descr=""/>
          <p:cNvPicPr/>
          <p:nvPr/>
        </p:nvPicPr>
        <p:blipFill>
          <a:blip r:embed="rId6"/>
          <a:stretch/>
        </p:blipFill>
        <p:spPr>
          <a:xfrm>
            <a:off x="4583160" y="1522440"/>
            <a:ext cx="4421160" cy="30589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"/>
          <p:cNvSpPr/>
          <p:nvPr/>
        </p:nvSpPr>
        <p:spPr>
          <a:xfrm>
            <a:off x="5395320" y="458136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 подготовк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43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5" name="TextBox 10"/>
            <p:cNvGrpSpPr/>
            <p:nvPr/>
          </p:nvGrpSpPr>
          <p:grpSpPr>
            <a:xfrm>
              <a:off x="5338440" y="316800"/>
              <a:ext cx="3805560" cy="871920"/>
              <a:chOff x="5338440" y="316800"/>
              <a:chExt cx="3805560" cy="871920"/>
            </a:xfrm>
          </p:grpSpPr>
          <p:pic>
            <p:nvPicPr>
              <p:cNvPr id="346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31680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>
                <a:off x="5438520" y="37440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Сценарная матрица стратегических действ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8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8191-D81B-4968-A518-C760786D31F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Таблица 13" descr=""/>
          <p:cNvPicPr/>
          <p:nvPr/>
        </p:nvPicPr>
        <p:blipFill>
          <a:blip r:embed="rId5"/>
          <a:stretch/>
        </p:blipFill>
        <p:spPr>
          <a:xfrm>
            <a:off x="444600" y="1816200"/>
            <a:ext cx="81262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55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7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58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лан маркетинг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0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59D2-399C-424F-A74E-27BB45DC671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4080" y="2492280"/>
          <a:ext cx="4011480" cy="3627360"/>
        </p:xfrm>
        <a:graphic>
          <a:graphicData uri="http://schemas.openxmlformats.org/drawingml/2006/table">
            <a:tbl>
              <a:tblPr/>
              <a:tblGrid>
                <a:gridCol w="392040"/>
                <a:gridCol w="2603520"/>
                <a:gridCol w="1015920"/>
              </a:tblGrid>
              <a:tr h="106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виакомпания-эксплуа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-во план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oeing 737 Next Gen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Москва» («Moscow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Оренбургские авиалинии» («Orenair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Якут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 («Yakutia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ибир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 («S7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Трансаэро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ransaer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Аэросвит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erosvi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Газпромавиа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azpromavi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363" name="Rectangle 11"/>
          <p:cNvSpPr/>
          <p:nvPr/>
        </p:nvSpPr>
        <p:spPr>
          <a:xfrm>
            <a:off x="128520" y="17614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евая аудитория ТОи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oeing 737 Next Gen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Схема 6" descr=""/>
          <p:cNvPicPr/>
          <p:nvPr/>
        </p:nvPicPr>
        <p:blipFill>
          <a:blip r:embed="rId5"/>
          <a:stretch/>
        </p:blipFill>
        <p:spPr>
          <a:xfrm>
            <a:off x="4468680" y="1341360"/>
            <a:ext cx="4523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6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69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Финансовый пл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E033-9082-49FD-80BF-ECD2BB6D0B3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187560" y="1486080"/>
            <a:ext cx="30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чет процентов по кредит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85760" y="1824120"/>
          <a:ext cx="7710480" cy="1055520"/>
        </p:xfrm>
        <a:graphic>
          <a:graphicData uri="http://schemas.openxmlformats.org/drawingml/2006/table">
            <a:tbl>
              <a:tblPr/>
              <a:tblGrid>
                <a:gridCol w="652320"/>
                <a:gridCol w="1513080"/>
                <a:gridCol w="1008000"/>
                <a:gridCol w="1440000"/>
                <a:gridCol w="1635120"/>
                <a:gridCol w="1461960"/>
              </a:tblGrid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лг на начал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нну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% погаш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едит погаш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лг 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11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880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880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18 4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321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0 6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1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06280" y="3376440"/>
          <a:ext cx="7101000" cy="3365640"/>
        </p:xfrm>
        <a:graphic>
          <a:graphicData uri="http://schemas.openxmlformats.org/drawingml/2006/table">
            <a:tbl>
              <a:tblPr/>
              <a:tblGrid>
                <a:gridCol w="2365560"/>
                <a:gridCol w="966600"/>
                <a:gridCol w="908280"/>
                <a:gridCol w="893520"/>
                <a:gridCol w="982800"/>
                <a:gridCol w="984240"/>
              </a:tblGrid>
              <a:tr h="1836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 grid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35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нвестицион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4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ая деятельност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8 615 7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2 022 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3 456 8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 887 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 887 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руч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8 292 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8 765 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7 501 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5 378 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5 378 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ые расх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4 296 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5 982 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0 917 8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4 904 6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4 904 6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лог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5 379 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0 761 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127 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586 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586 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нансовая деятельност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160 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 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 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ствен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281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ем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зврат креди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 том числе процен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2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1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0 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нежный поток за пери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8 615 7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2 022 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1 617 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5 047 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5 047 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сконтированный денежный поток за пери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1 913 8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 701 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3 491 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 349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3 512 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сконтный множитель при ставке дисконтирования 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5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3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376" name="Прямоугольник 13"/>
          <p:cNvSpPr/>
          <p:nvPr/>
        </p:nvSpPr>
        <p:spPr>
          <a:xfrm>
            <a:off x="179280" y="299736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ежные поток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2:32:01Z</dcterms:created>
  <dc:creator>User</dc:creator>
  <dc:description/>
  <dc:language>en-US</dc:language>
  <cp:lastModifiedBy>Гончарова Анастасия Вячеславовна</cp:lastModifiedBy>
  <dcterms:modified xsi:type="dcterms:W3CDTF">2011-05-31T11:08:34Z</dcterms:modified>
  <cp:revision>59</cp:revision>
  <dc:subject/>
  <dc:title>Итоговое совещание Совета УМО</dc:title>
</cp:coreProperties>
</file>